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F60F-A3BB-42C1-A721-EF640D3D2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A5D2-44FF-4F9C-AF8E-ACA3092C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F4B3-5099-43A4-B021-2A3D9385B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7EB7-5BD1-45B3-B061-9979A7032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85419B-3409-4B3F-8AE2-A96ADF4E6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F47966-F349-423E-AF84-4D877F77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3CB06-CBE6-40A6-BF9F-F931DABB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9271A-1A96-462A-8495-BAB5AD92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AD2FC-178F-4707-A676-FE2B16FB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868B2-0E4E-4990-BE93-7E32590F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BF65A8-DF76-4428-AA2D-FA5A091F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B1FF-744F-46A3-AF0F-50BC5A1B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CCD4F1-FE6C-4550-B17D-9036796D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B43387-C28A-4AD7-80ED-857B919A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BB5D4-9A27-48BA-AA04-857B139A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E1E85F-D33A-4B16-AEC1-16FB8E951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B9C96-88D8-4966-8B56-706EFC0C7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8BE1-A768-46DF-A8FA-99D7B588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88CF-9215-4A7F-AD67-6369158A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8E18-193D-4ED7-BBA5-ECD9D698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A069-AEB3-4B2B-A901-B99A5438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B015-C03C-431D-B319-5FD44F6F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6450-1257-45FA-B9CF-35E2C397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9051-294A-40B8-A923-FB3E1711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A413-D5D3-4F0F-A5AD-AA23B71A6A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C0BA-913E-4E2F-9B84-D28EFE59F6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Природа Центральной России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дание на «3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еречислите в своих тетрадях факторы формирования Центрального райо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дание на «4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Используя материалы учебника (&amp;30) и карты атласа, охарактеризуйте особенности природы Центральной России. Заполните таблицу в своих тетрадя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371600" y="1295280"/>
          <a:ext cx="6324480" cy="3152880"/>
        </p:xfrm>
        <a:graphic>
          <a:graphicData uri="http://schemas.openxmlformats.org/drawingml/2006/table">
            <a:tbl>
              <a:tblPr/>
              <a:tblGrid>
                <a:gridCol w="2971800"/>
                <a:gridCol w="3352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прир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еологическое стро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езные ископаем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ы рельеф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лима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чв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титель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ивотный ми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228600" y="464796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Задание 8 в рабочей тетради на стр. 6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спользуя материалы учебника (&amp;30) и карты атласа, охарактеризуйте главные отрасли природы района, их влияние на жизнь и хозяйственную деятельность людей и запишите их в тетрад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дание на «5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 контурной карте «Центральная Россия» отметьт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) крупные города, ре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) страны и районы-сосед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17524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Проверяем!!!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Задание на оценку «3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акторы формирования района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нтральность полож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оличность полож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иентация на привозное сырь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Задание на оценку «4»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685800"/>
          <a:ext cx="8229600" cy="6100920"/>
        </p:xfrm>
        <a:graphic>
          <a:graphicData uri="http://schemas.openxmlformats.org/drawingml/2006/table">
            <a:tbl>
              <a:tblPr/>
              <a:tblGrid>
                <a:gridCol w="3276720"/>
                <a:gridCol w="495288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прир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еологическое стро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ревняя докембрийская Русская платфор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езные ископаем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урый уголь,торф,строительные материалы, железные руды, фосфори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ы рельеф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сточно-Европейская равни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лима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меренно континента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чв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рново-подзолистые, бурые лесные, серые лесные, чернозе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тительн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темнохвойной тайги на севере до широколиственных лесов в более южных районах. Ещё южнее лесостепи и степ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ивотный ми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лагородный олень, лось, кабан, зубр, бобр, выхухо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Задание на оценку «4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есные ресурсы  являются важнейшим природным ресурсом, хотя запасы древесины в целом не очень велики. В ходе длительной эксплуатации лесные ресурсы, особенно хвойные породы, сильно исчерпаны и заготовка древесины сокращаетс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чень хорошо освоены рекреационные ресурсы Центральной России. Её живописные ландшафты – чудесные места отдыха. Культурное значение имеют исторические и природные памятни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Задание на оценку «5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а) Крупные города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Владимир, Иваново, Кострома, Тверь, Ярославль, Калуга, Москва, Брянск, Орёл, Рязань, Смоленск, Тула, Белгород, Воронеж, Курск, Липецк, Тамбов, Йошкар-Ола, Саранск, Чебоксары, Киров, Нижний Новгород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Крупные реки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Волга, Ока, До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б) Страны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Белоруссия, Украи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Районы-соседи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Северо-Западный район, Европейский Север, Уральский район, Поволжье, Европейский Ю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N_OS</cp:lastModifiedBy>
  <dcterms:modified xsi:type="dcterms:W3CDTF">2012-12-20T20:50:13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